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C54B-2D56-4D64-8EFA-65D62B2C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24D8-EDD4-4DDA-AF8F-F9C74354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2918-B7B8-42CF-A183-16F644DD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6977-487E-4D39-BC6A-0B65E1AB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39D0-D002-420C-A260-57EA3F12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6BFB-89E4-47D9-93A8-027DA9E5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B53E-2C40-46F9-ABFD-E9CD0676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704D-42D5-41DD-94F7-8B950A1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8EA6-4454-4125-BFB9-00C1ABDA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04B9-AD24-4DD4-8A59-0E752A51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ECA7-3ABB-4F1F-95CB-AC17A6AE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4444-9F33-4973-906E-BB07605B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E371-35FF-4A63-B62C-EE310C40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336D-8029-4B06-A27D-E372EF5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C271-A3EA-4F66-91E5-A7EB6892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DD1E-602B-4ED9-8A95-90151EB6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0A60-07E8-47A3-A8A0-51247023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C101-883A-4AF9-9B88-3DD0F221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57FB-59F2-40F7-88D0-2854F665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C326-4871-402F-9F53-7733C3A9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C8CF-1A16-4088-B619-9B67D5B0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132D-AFFC-47AF-B7CB-2092FBCC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75EE-D982-4E2B-A9B7-69031D86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1809-27AB-4930-A0D1-99F948E4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C261E-EB85-4AC9-BBD9-4C94828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7C07-BE0E-45AB-9C98-61E2F1AE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856D-DA10-496B-8A60-07D6EE6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4A6F-ED62-4DC3-B94A-B2CF3E3D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8D3A-50B5-4ECF-9FBA-1EB3A41F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A3AC-A9AE-42E7-A65C-5B18C9C8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5F70-83DC-4AD5-8D71-AFFA25ED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CF9A-7579-4EBE-98B5-0F527426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442B-6FA4-4908-9136-A990857A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DA28-2FFC-4C8C-B19D-B085672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391E-505D-4E7F-98CD-15F7BC36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021B-7FFC-40E8-8921-4ED9E12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CAE-5DD5-4294-A1AC-817CD7636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1835-CB30-4C65-A8E8-60B11050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AFC7-5070-4D7B-9E02-E4245BF4F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e5e5ff"/>
                </a:solidFill>
                <a:latin typeface="Comic Sans MS"/>
              </a:rPr>
              <a:t>Mon corps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56000" y="5013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 b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780000" y="1628640"/>
          <a:ext cx="156816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628640"/>
                    <a:ext cx="156816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63640" y="263700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Comic Sans MS"/>
              </a:rPr>
              <a:t>Vocabulai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916360" y="1700280"/>
            <a:ext cx="3168360" cy="260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92360" y="4941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tê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11640" y="3068640"/>
            <a:ext cx="3983040" cy="1608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1800000" cy="1463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2924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Un oe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472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s ye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68360" y="458136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s cheve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348000" y="1413000"/>
          <a:ext cx="280836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13000"/>
                    <a:ext cx="280836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51280" y="1052640"/>
            <a:ext cx="1965240" cy="280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71640" y="443700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 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1914480" cy="2735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4642920" y="2349360"/>
            <a:ext cx="1513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472428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653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 n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2736720" cy="1520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700360" y="4221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 bou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292360" y="16286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48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Une lèv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1555560" cy="259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581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Une ore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42:11Z</dcterms:created>
  <dc:creator>juana</dc:creator>
  <dc:description/>
  <dc:language>en-US</dc:language>
  <cp:lastModifiedBy>juana</cp:lastModifiedBy>
  <dcterms:modified xsi:type="dcterms:W3CDTF">2012-04-19T18:14:16Z</dcterms:modified>
  <cp:revision>6</cp:revision>
  <dc:subject/>
  <dc:title>Mon corps</dc:title>
</cp:coreProperties>
</file>